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2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16DF-D200-4D98-8084-B633EC597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242B-60A4-4FE4-9DD9-761BAE9BF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99BA-7BB3-415D-AD4A-E610B3DDE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6636-AFE7-42A0-8BBD-9119F250A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50C1-E6F4-4FFD-A7E6-57F42227F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FB1D-2D91-499A-A5E9-723BE86B3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2EEF-A761-49BB-A8F2-645D615B8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FDC2-F1FA-40FD-A792-F99808678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0E34-8C4F-46F1-B417-B623A01F9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E089-493C-4F22-BC24-5F0DA1763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AC08-0824-4BE9-A6DF-7059BA86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26BB-2FCC-4140-9429-1FC6EEC4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f7f7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98831-9B7A-4139-8EAD-9853D709AC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Users\tanya\Desktop\рисунки\Рисунок1 копия.jpg"/>
          <p:cNvPicPr/>
          <p:nvPr/>
        </p:nvPicPr>
        <p:blipFill>
          <a:blip r:embed="rId1"/>
          <a:stretch/>
        </p:blipFill>
        <p:spPr>
          <a:xfrm>
            <a:off x="1000080" y="714240"/>
            <a:ext cx="7286760" cy="57708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C:\Users\tanya\Desktop\рисунки\Рисунок10.jpg"/>
          <p:cNvPicPr/>
          <p:nvPr/>
        </p:nvPicPr>
        <p:blipFill>
          <a:blip r:embed="rId1"/>
          <a:stretch/>
        </p:blipFill>
        <p:spPr>
          <a:xfrm>
            <a:off x="1000080" y="714240"/>
            <a:ext cx="7126200" cy="54295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C:\Users\tanya\Desktop\рисунки\Рисунок11.jpg"/>
          <p:cNvPicPr/>
          <p:nvPr/>
        </p:nvPicPr>
        <p:blipFill>
          <a:blip r:embed="rId1"/>
          <a:stretch/>
        </p:blipFill>
        <p:spPr>
          <a:xfrm>
            <a:off x="1000080" y="714240"/>
            <a:ext cx="7143840" cy="54295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C:\Users\tanya\Desktop\рисунки\Рисунок12.jpg"/>
          <p:cNvPicPr/>
          <p:nvPr/>
        </p:nvPicPr>
        <p:blipFill>
          <a:blip r:embed="rId1"/>
          <a:stretch/>
        </p:blipFill>
        <p:spPr>
          <a:xfrm>
            <a:off x="1000080" y="714240"/>
            <a:ext cx="7143840" cy="53578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C:\Users\tanya\Desktop\рисунки\Рисунок13.jpg"/>
          <p:cNvPicPr/>
          <p:nvPr/>
        </p:nvPicPr>
        <p:blipFill>
          <a:blip r:embed="rId1"/>
          <a:stretch/>
        </p:blipFill>
        <p:spPr>
          <a:xfrm>
            <a:off x="1000080" y="714240"/>
            <a:ext cx="7226280" cy="54295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C:\Users\tanya\Desktop\рисунки\Рисунок15.jpg"/>
          <p:cNvPicPr/>
          <p:nvPr/>
        </p:nvPicPr>
        <p:blipFill>
          <a:blip r:embed="rId1"/>
          <a:stretch/>
        </p:blipFill>
        <p:spPr>
          <a:xfrm>
            <a:off x="1000080" y="714240"/>
            <a:ext cx="7143840" cy="53704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C:\Users\tanya\Desktop\рисунки\Рисунок16.jpg"/>
          <p:cNvPicPr/>
          <p:nvPr/>
        </p:nvPicPr>
        <p:blipFill>
          <a:blip r:embed="rId1"/>
          <a:stretch/>
        </p:blipFill>
        <p:spPr>
          <a:xfrm>
            <a:off x="1000080" y="714240"/>
            <a:ext cx="7143840" cy="54295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C:\Users\tanya\Desktop\рисунки\Рисунок17.jpg"/>
          <p:cNvPicPr/>
          <p:nvPr/>
        </p:nvPicPr>
        <p:blipFill>
          <a:blip r:embed="rId1"/>
          <a:stretch/>
        </p:blipFill>
        <p:spPr>
          <a:xfrm>
            <a:off x="1000080" y="714240"/>
            <a:ext cx="7143840" cy="53578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C:\Users\tanya\Desktop\рисунки\Рисунок18.jpg"/>
          <p:cNvPicPr/>
          <p:nvPr/>
        </p:nvPicPr>
        <p:blipFill>
          <a:blip r:embed="rId1"/>
          <a:stretch/>
        </p:blipFill>
        <p:spPr>
          <a:xfrm>
            <a:off x="1000080" y="714240"/>
            <a:ext cx="7042320" cy="53578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C:\Users\tanya\Desktop\рисунки\Рисунок19.jpg"/>
          <p:cNvPicPr/>
          <p:nvPr/>
        </p:nvPicPr>
        <p:blipFill>
          <a:blip r:embed="rId1"/>
          <a:stretch/>
        </p:blipFill>
        <p:spPr>
          <a:xfrm>
            <a:off x="1000080" y="714240"/>
            <a:ext cx="7226280" cy="54295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C:\Users\tanya\Desktop\рисунки\Рисунок20.jpg"/>
          <p:cNvPicPr/>
          <p:nvPr/>
        </p:nvPicPr>
        <p:blipFill>
          <a:blip r:embed="rId1"/>
          <a:srcRect l="15066" t="0" r="16293" b="0"/>
          <a:stretch/>
        </p:blipFill>
        <p:spPr>
          <a:xfrm>
            <a:off x="1000080" y="714240"/>
            <a:ext cx="7215120" cy="53946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C:\Users\tanya\Desktop\рисунки\Рисунок2.jpg"/>
          <p:cNvPicPr/>
          <p:nvPr/>
        </p:nvPicPr>
        <p:blipFill>
          <a:blip r:embed="rId1"/>
          <a:stretch/>
        </p:blipFill>
        <p:spPr>
          <a:xfrm>
            <a:off x="1000080" y="714240"/>
            <a:ext cx="7143840" cy="53578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C:\Users\tanya\Desktop\рисунки\Рисунок21.jpg"/>
          <p:cNvPicPr/>
          <p:nvPr/>
        </p:nvPicPr>
        <p:blipFill>
          <a:blip r:embed="rId1"/>
          <a:stretch/>
        </p:blipFill>
        <p:spPr>
          <a:xfrm>
            <a:off x="1000080" y="714240"/>
            <a:ext cx="7132680" cy="53578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C:\Users\tanya\Desktop\рисунки\Рисунок22.jpg"/>
          <p:cNvPicPr/>
          <p:nvPr/>
        </p:nvPicPr>
        <p:blipFill>
          <a:blip r:embed="rId1"/>
          <a:stretch/>
        </p:blipFill>
        <p:spPr>
          <a:xfrm>
            <a:off x="1000080" y="714240"/>
            <a:ext cx="7132680" cy="53578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C:\Users\tanya\Desktop\рисунки\Рисунок23.jpg"/>
          <p:cNvPicPr/>
          <p:nvPr/>
        </p:nvPicPr>
        <p:blipFill>
          <a:blip r:embed="rId1"/>
          <a:stretch/>
        </p:blipFill>
        <p:spPr>
          <a:xfrm>
            <a:off x="1000080" y="714240"/>
            <a:ext cx="7112160" cy="53578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C:\Users\tanya\Desktop\рисунки\Рисунок24.jpg"/>
          <p:cNvPicPr/>
          <p:nvPr/>
        </p:nvPicPr>
        <p:blipFill>
          <a:blip r:embed="rId1"/>
          <a:stretch/>
        </p:blipFill>
        <p:spPr>
          <a:xfrm>
            <a:off x="1000080" y="714240"/>
            <a:ext cx="7072200" cy="52959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C:\Users\tanya\Desktop\рисунки\Рисунок25.jpg"/>
          <p:cNvPicPr/>
          <p:nvPr/>
        </p:nvPicPr>
        <p:blipFill>
          <a:blip r:embed="rId1"/>
          <a:stretch/>
        </p:blipFill>
        <p:spPr>
          <a:xfrm>
            <a:off x="1000080" y="714240"/>
            <a:ext cx="7170840" cy="54295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C:\Users\tanya\Desktop\рисунки\Рисунок26.jpg"/>
          <p:cNvPicPr/>
          <p:nvPr/>
        </p:nvPicPr>
        <p:blipFill>
          <a:blip r:embed="rId1"/>
          <a:stretch/>
        </p:blipFill>
        <p:spPr>
          <a:xfrm>
            <a:off x="1000080" y="714240"/>
            <a:ext cx="7143840" cy="53737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C:\Users\tanya\Desktop\рисунки\Рисунок27.jpg"/>
          <p:cNvPicPr/>
          <p:nvPr/>
        </p:nvPicPr>
        <p:blipFill>
          <a:blip r:embed="rId1"/>
          <a:stretch/>
        </p:blipFill>
        <p:spPr>
          <a:xfrm>
            <a:off x="1000080" y="714240"/>
            <a:ext cx="7143840" cy="53704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C:\Users\tanya\Desktop\рисунки\Рисунок28.jpg"/>
          <p:cNvPicPr/>
          <p:nvPr/>
        </p:nvPicPr>
        <p:blipFill>
          <a:blip r:embed="rId1"/>
          <a:stretch/>
        </p:blipFill>
        <p:spPr>
          <a:xfrm>
            <a:off x="1000080" y="714240"/>
            <a:ext cx="7199280" cy="53578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C:\Users\tanya\Desktop\рисунки\Рисунок30.jpg"/>
          <p:cNvPicPr/>
          <p:nvPr/>
        </p:nvPicPr>
        <p:blipFill>
          <a:blip r:embed="rId1"/>
          <a:stretch/>
        </p:blipFill>
        <p:spPr>
          <a:xfrm>
            <a:off x="1000080" y="714240"/>
            <a:ext cx="7213680" cy="53578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C:\Users\tanya\Desktop\рисунки\Рисунок29.jpg"/>
          <p:cNvPicPr/>
          <p:nvPr/>
        </p:nvPicPr>
        <p:blipFill>
          <a:blip r:embed="rId1"/>
          <a:stretch/>
        </p:blipFill>
        <p:spPr>
          <a:xfrm>
            <a:off x="1071720" y="785880"/>
            <a:ext cx="7215120" cy="53197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C:\Users\tanya\Desktop\рисунки\Рисунок3.jpg"/>
          <p:cNvPicPr/>
          <p:nvPr/>
        </p:nvPicPr>
        <p:blipFill>
          <a:blip r:embed="rId1"/>
          <a:stretch/>
        </p:blipFill>
        <p:spPr>
          <a:xfrm>
            <a:off x="1000080" y="714240"/>
            <a:ext cx="7286760" cy="54784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C:\Users\tanya\Desktop\рисунки\Рисунок32.jpg"/>
          <p:cNvPicPr/>
          <p:nvPr/>
        </p:nvPicPr>
        <p:blipFill>
          <a:blip r:embed="rId1"/>
          <a:stretch/>
        </p:blipFill>
        <p:spPr>
          <a:xfrm>
            <a:off x="1000080" y="785880"/>
            <a:ext cx="7143840" cy="52862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C:\Users\tanya\Desktop\рисунки\Рисунок33.jpg"/>
          <p:cNvPicPr/>
          <p:nvPr/>
        </p:nvPicPr>
        <p:blipFill>
          <a:blip r:embed="rId1"/>
          <a:stretch/>
        </p:blipFill>
        <p:spPr>
          <a:xfrm>
            <a:off x="1000080" y="714240"/>
            <a:ext cx="7143840" cy="53816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edg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C:\Users\tanya\Desktop\рисунки\Рисунок34.jpg"/>
          <p:cNvPicPr/>
          <p:nvPr/>
        </p:nvPicPr>
        <p:blipFill>
          <a:blip r:embed="rId1"/>
          <a:stretch/>
        </p:blipFill>
        <p:spPr>
          <a:xfrm>
            <a:off x="1000080" y="714240"/>
            <a:ext cx="7159680" cy="54295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edg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C:\Users\tanya\Desktop\рисунки\Рисунок35.jpg"/>
          <p:cNvPicPr/>
          <p:nvPr/>
        </p:nvPicPr>
        <p:blipFill>
          <a:blip r:embed="rId1"/>
          <a:stretch/>
        </p:blipFill>
        <p:spPr>
          <a:xfrm>
            <a:off x="1000080" y="714240"/>
            <a:ext cx="7143840" cy="53690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C:\Users\tanya\Desktop\рисунки\Рисунок4.jpg"/>
          <p:cNvPicPr/>
          <p:nvPr/>
        </p:nvPicPr>
        <p:blipFill>
          <a:blip r:embed="rId1"/>
          <a:stretch/>
        </p:blipFill>
        <p:spPr>
          <a:xfrm>
            <a:off x="1000080" y="785880"/>
            <a:ext cx="7143840" cy="53578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C:\Users\tanya\Desktop\рисунки\Рисунок5.jpg"/>
          <p:cNvPicPr/>
          <p:nvPr/>
        </p:nvPicPr>
        <p:blipFill>
          <a:blip r:embed="rId1"/>
          <a:stretch/>
        </p:blipFill>
        <p:spPr>
          <a:xfrm>
            <a:off x="1000080" y="714240"/>
            <a:ext cx="3975120" cy="5357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Users\tanya\Desktop\рисунки\Рисунок14.jpg"/>
          <p:cNvPicPr/>
          <p:nvPr/>
        </p:nvPicPr>
        <p:blipFill>
          <a:blip r:embed="rId2"/>
          <a:stretch/>
        </p:blipFill>
        <p:spPr>
          <a:xfrm>
            <a:off x="4714920" y="714240"/>
            <a:ext cx="3668760" cy="53578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C:\Users\tanya\Desktop\рисунки\Рисунок6.jpg"/>
          <p:cNvPicPr/>
          <p:nvPr/>
        </p:nvPicPr>
        <p:blipFill>
          <a:blip r:embed="rId1"/>
          <a:stretch/>
        </p:blipFill>
        <p:spPr>
          <a:xfrm>
            <a:off x="1000080" y="714240"/>
            <a:ext cx="7273800" cy="53578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C:\Users\tanya\Desktop\рисунки\Рисунок7.jpg"/>
          <p:cNvPicPr/>
          <p:nvPr/>
        </p:nvPicPr>
        <p:blipFill>
          <a:blip r:embed="rId1"/>
          <a:stretch/>
        </p:blipFill>
        <p:spPr>
          <a:xfrm>
            <a:off x="1000080" y="714240"/>
            <a:ext cx="7135920" cy="53578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C:\Users\tanya\Desktop\рисунки\Рисунок8.jpg"/>
          <p:cNvPicPr/>
          <p:nvPr/>
        </p:nvPicPr>
        <p:blipFill>
          <a:blip r:embed="rId1"/>
          <a:stretch/>
        </p:blipFill>
        <p:spPr>
          <a:xfrm>
            <a:off x="1000080" y="714240"/>
            <a:ext cx="7128000" cy="53578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C:\Users\tanya\Desktop\рисунки\Рисунок9.png"/>
          <p:cNvPicPr/>
          <p:nvPr/>
        </p:nvPicPr>
        <p:blipFill>
          <a:blip r:embed="rId1"/>
          <a:stretch/>
        </p:blipFill>
        <p:spPr>
          <a:xfrm>
            <a:off x="1000080" y="714240"/>
            <a:ext cx="7135920" cy="53578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15:09:14Z</dcterms:created>
  <dc:creator>Татьяна</dc:creator>
  <dc:description/>
  <dc:language>en-US</dc:language>
  <cp:lastModifiedBy>tanya</cp:lastModifiedBy>
  <dcterms:modified xsi:type="dcterms:W3CDTF">2011-04-28T17:59:01Z</dcterms:modified>
  <cp:revision>6</cp:revision>
  <dc:subject/>
  <dc:title>Слайд 1</dc:title>
</cp:coreProperties>
</file>